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B3E-129C-4FE2-AD48-0F3F8833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EF2-B915-4235-AD10-82A9A1E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AD3-9945-4BA7-8BFD-8D10F75D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95C-F6A7-4C41-B695-C0913758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41E-B3F5-48AA-B2F7-BF5D831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F00-7FE4-42B2-8239-8DF84E6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66D-D136-457D-A6CA-0014FEE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20E-4497-4699-8CCA-912EAD30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24C-F733-4C78-9661-F6C56BAE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D8C-C056-4FC6-B059-E0957C5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C22-B2D4-4296-8640-31EE30D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3F4-F65F-448E-8198-FEC1A493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1B75-3E28-4BA5-B7F3-0C8E15BF5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3657600" cy="11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ربي يا نورَ رجائ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قتبِل من الدع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واجعل الراحل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دخلُ دارَ البق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أبا كلِّ المراح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رجاءَ الراقد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جعلِ الراحلَ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في عِدادِ الصالح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8:19Z</dcterms:created>
  <dc:creator>HANI SAFI</dc:creator>
  <dc:description/>
  <dc:language>en-US</dc:language>
  <cp:lastModifiedBy>HANI SAFI</cp:lastModifiedBy>
  <dcterms:modified xsi:type="dcterms:W3CDTF">2003-05-19T11:48:50Z</dcterms:modified>
  <cp:revision>1</cp:revision>
  <dc:subject/>
  <dc:title>Slide 1</dc:title>
</cp:coreProperties>
</file>